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7744-1EAB-4425-AC21-36903204F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6247-6714-4C8D-8B35-00808C6F1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DE61-AAD4-463A-834F-DE76D1118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morning-earth.org/Graphic-E/SymbiosisProcaryot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3867-A2AE-418A-B526-21AC1376A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Carl_Linna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ish bota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5C30-5CA4-461E-9C4D-B9F21271A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3ubio.weebly.com/taxonom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5ADC-6CBB-422B-8CC6-DEFFFA988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taken from: http://biology-igcse.weebly.com/dichotomous-key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9644-9987-490B-98C6-31036B6F5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taken from: http://biology-igcse.weebly.com/dichotomous-key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50D5-921C-4772-85F9-83E097A0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taken from: http://biology-igcse.weebly.com/dichotomous-key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17C6-F7F4-4D67-A5F5-0F1FD8D2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nx.org/contents/79849572-b29d-401b-9c26-c37ff1e3cafd@5/Classification_of_Matter_-_G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7716-9704-4695-B318-EFFFC72A7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scitable/content/variation-within-species-4308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within species…colouration of these butterflies depends on season when they were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DA96-DF59-4ABD-8BE7-C41977337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nrg/journal/v10/n11/fig_tab/nrg2687_F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within species…sexual dimorph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98E1-0559-4DE1-9501-E01743F0E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Eclectus_p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ectus parrot (male is green, female is 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54F9-C204-4CF8-A81B-31F740611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esources.mhs.vic.edu.au/macbeth/historical/elizabord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C374-7971-4058-B8C9-6EADACB1E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s://facinatingamazinganimals.wordpress.com/tag/anima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C77-F4AC-413F-AEB5-1F121859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FA5-0510-49D8-B919-10F2D790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20E-8169-4BEE-9094-600B65AA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B30-042E-43A4-925E-B90FD52C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BE3-5210-44C5-8968-516E4977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EE1-9C83-4A7B-970D-A85FCD1D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881-2D01-474C-B657-9C705618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845-7670-425E-8FC4-31AB40F2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202-551A-48D7-B290-59270658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2C0-241A-43AA-AEE6-F69C0FBC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000-ED5D-46DB-A640-4951EC62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62D-9FEB-425E-A6F9-C6EDB2BC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6227-6548-49FA-9374-93DA6F7CD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kingdoms"/>
          <p:cNvPicPr/>
          <p:nvPr/>
        </p:nvPicPr>
        <p:blipFill>
          <a:blip r:embed="rId1"/>
          <a:stretch/>
        </p:blipFill>
        <p:spPr>
          <a:xfrm>
            <a:off x="1785960" y="1981080"/>
            <a:ext cx="557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l Linnaeus (1707-177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 of taxonom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naming syste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omial nomencl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 sapi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40px-Carl_von_Linné"/>
          <p:cNvPicPr/>
          <p:nvPr/>
        </p:nvPicPr>
        <p:blipFill>
          <a:blip r:embed="rId1"/>
          <a:stretch/>
        </p:blipFill>
        <p:spPr>
          <a:xfrm>
            <a:off x="4921200" y="1981080"/>
            <a:ext cx="3721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ication of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teria used to classify organisms can be used when attempting to identif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chotomous ke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to identify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hotomou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7481061_orig"/>
          <p:cNvPicPr/>
          <p:nvPr/>
        </p:nvPicPr>
        <p:blipFill>
          <a:blip r:embed="rId1"/>
          <a:stretch/>
        </p:blipFill>
        <p:spPr>
          <a:xfrm>
            <a:off x="380880" y="1693800"/>
            <a:ext cx="84582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pecies of trees are the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796518"/>
          <p:cNvPicPr/>
          <p:nvPr/>
        </p:nvPicPr>
        <p:blipFill>
          <a:blip r:embed="rId1"/>
          <a:stretch/>
        </p:blipFill>
        <p:spPr>
          <a:xfrm>
            <a:off x="2496960" y="1981080"/>
            <a:ext cx="4148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hotomou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6944913_orig"/>
          <p:cNvPicPr/>
          <p:nvPr/>
        </p:nvPicPr>
        <p:blipFill>
          <a:blip r:embed="rId1"/>
          <a:stretch/>
        </p:blipFill>
        <p:spPr>
          <a:xfrm>
            <a:off x="1006560" y="1981080"/>
            <a:ext cx="712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6944913_orig"/>
          <p:cNvPicPr/>
          <p:nvPr/>
        </p:nvPicPr>
        <p:blipFill>
          <a:blip r:embed="rId1"/>
          <a:stretch/>
        </p:blipFill>
        <p:spPr>
          <a:xfrm>
            <a:off x="1763640" y="189000"/>
            <a:ext cx="712944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796518"/>
          <p:cNvPicPr/>
          <p:nvPr/>
        </p:nvPicPr>
        <p:blipFill>
          <a:blip r:embed="rId2"/>
          <a:stretch/>
        </p:blipFill>
        <p:spPr>
          <a:xfrm>
            <a:off x="250920" y="2627280"/>
            <a:ext cx="414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ng items into various categories based on a set of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categories/criteria would you use to sort your music? your books? your clothing? items in a grocery st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G10C1_001"/>
          <p:cNvPicPr/>
          <p:nvPr/>
        </p:nvPicPr>
        <p:blipFill>
          <a:blip r:embed="rId1"/>
          <a:stretch/>
        </p:blipFill>
        <p:spPr>
          <a:xfrm>
            <a:off x="685800" y="2478240"/>
            <a:ext cx="77724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Living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science of classifying all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characteristics might be used to classify living organisms into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of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10"/>
          <p:cNvPicPr/>
          <p:nvPr/>
        </p:nvPicPr>
        <p:blipFill>
          <a:blip r:embed="rId1"/>
          <a:stretch/>
        </p:blipFill>
        <p:spPr>
          <a:xfrm>
            <a:off x="685800" y="2023920"/>
            <a:ext cx="77724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of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nrg2687-f1"/>
          <p:cNvPicPr/>
          <p:nvPr/>
        </p:nvPicPr>
        <p:blipFill>
          <a:blip r:embed="rId1"/>
          <a:stretch/>
        </p:blipFill>
        <p:spPr>
          <a:xfrm>
            <a:off x="387360" y="1676520"/>
            <a:ext cx="829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pec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rganisms capable of breeding freely with each other under natural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300px-Eclectus_roratus-20030511"/>
          <p:cNvPicPr/>
          <p:nvPr/>
        </p:nvPicPr>
        <p:blipFill>
          <a:blip r:embed="rId1"/>
          <a:stretch/>
        </p:blipFill>
        <p:spPr>
          <a:xfrm>
            <a:off x="4648320" y="2959200"/>
            <a:ext cx="38098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440" y="914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in of Be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ristot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hain-of-being01"/>
          <p:cNvPicPr/>
          <p:nvPr/>
        </p:nvPicPr>
        <p:blipFill>
          <a:blip r:embed="rId1"/>
          <a:stretch/>
        </p:blipFill>
        <p:spPr>
          <a:xfrm>
            <a:off x="4932360" y="304920"/>
            <a:ext cx="3011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xonomic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levels_of_classification"/>
          <p:cNvPicPr/>
          <p:nvPr/>
        </p:nvPicPr>
        <p:blipFill>
          <a:blip r:embed="rId1"/>
          <a:stretch/>
        </p:blipFill>
        <p:spPr>
          <a:xfrm>
            <a:off x="2347920" y="1600200"/>
            <a:ext cx="444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05:10:11Z</dcterms:created>
  <dc:creator>rubina khan</dc:creator>
  <dc:description/>
  <dc:language>en-US</dc:language>
  <cp:lastModifiedBy>rubina khan</cp:lastModifiedBy>
  <dcterms:modified xsi:type="dcterms:W3CDTF">2015-09-10T13:31:32Z</dcterms:modified>
  <cp:revision>70</cp:revision>
  <dc:subject/>
  <dc:title>PowerPoint Presentation</dc:title>
</cp:coreProperties>
</file>